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66F-F274-4634-93DB-B3477285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DF0-8D88-46F7-8582-0501F35E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E82-9416-4757-980B-7C124E89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55C-9B02-461A-BE9F-28C9CC6F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BDA-7A3C-463F-806E-5D4595F6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E79-75A4-45FA-AF3E-F1E903CB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5CAC-1073-4A0F-8817-A7657721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D7E-59D9-4BE6-ABEF-EF281A92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06F-568F-4271-AB21-9EED745F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E90-9BC4-4B37-8125-03E1C85A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532-72F0-4DD2-A50F-B33BAA9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81A-591F-443E-8CD8-FF402B43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pter 2 - </a:t>
            </a:r>
            <a:fld id="{154432C9-CBCE-486F-A9CB-B15E7FD6C67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mmunicatin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 Teams and Mastering Listening and Nonverbal Communication Skill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53A-A374-4D73-96C5-CD1B912AAFB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am Evolu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forc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62F-4897-4E9A-92F6-F883337007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ources of Team Conflic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rc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responsi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patible id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commun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itudes and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strugg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ing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E8A-2551-4C6D-83B6-245052B550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s of Conflic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uctive (win-wi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s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sts invol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s id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tructive (win-lose, or lose-lo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ts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roys mor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the 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F92-BC45-41F3-8A60-638BDA8BA7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solving Conflic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r pl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i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533-5BC7-453E-A9EB-1B15C4F082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vercoming Resistanc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ress understa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ng resistance into the op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e objections fair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hold arg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DCF-E2A7-424C-B0DF-30E3F27BA7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tiquette in Team Sett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workpl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social sett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752480"/>
            <a:ext cx="82296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488-5DB2-43B1-9EB4-6815A70A33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orkplace Etiquett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rance and groo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enuine sm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phone ski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72B-BBDE-4E6C-B822-DF4E060D16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tiquette in Social Sett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impres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introd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ng etiquet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use of mobile ph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ppropriate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27B-22D2-46AD-B0ED-C9865541C06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oductive Meet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04E-7D91-439A-8AB5-8AC25106E3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reparing for Meet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e on the purp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 participa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ose the lo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and follow an 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E83-EAD5-4ABD-848E-50196412B9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mproving Your Performance in Team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or more peo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mission/responsi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toward a go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t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 forces and problem-solving t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3BA-31B5-40D5-8A30-3CEE0A25EB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eading and Participat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y on tra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 the r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ote particip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cipate active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 effective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A9E-B7FC-4974-905C-7BD1F94A3D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eting Technologi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 t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rtual meet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7DD-7586-4A22-B3C8-2A4602F38E2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mproving Listening Skill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engthen relationsh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dite product deli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light opportun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workplace divers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 foundation for tru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 perform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2E6-5FB6-4618-AFEB-CE5F3B3A04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s of Listen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athetic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4BA-B894-4047-9865-678BB98BD1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Listening Proce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d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emb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E52-DCE8-44EE-9057-3BD63D52F8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rriers to Listen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cal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ve list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 attention sp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dgment and defensive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tle common 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ory barrier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D09-44E3-4758-8B41-72B233A3B1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Nonverbal Commun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ment verbal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eal the tru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y information efficient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63C-91DB-4EF3-B80F-ACD43491A2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cognizing Nonverbal Commun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al expres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stures and pos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cal character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appear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uching behavi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time and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A3A-4D61-452E-A2AF-07AE49698B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aximizing Nonverbal Communication Skill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facial expres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 gestures and pos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for vocal character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gnize physical appear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careful with physical conta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 use of time and sp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752480"/>
            <a:ext cx="82296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223-3B52-4D5B-A605-896FC03D45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3200"/>
            <a:ext cx="4114800" cy="34290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2743200"/>
            <a:ext cx="4114800" cy="34290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Overview of Tea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752480"/>
            <a:ext cx="4114800" cy="99072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3157560"/>
            <a:ext cx="4013280" cy="2652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infor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 of 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ing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752480"/>
            <a:ext cx="4114800" cy="990720"/>
          </a:xfrm>
          <a:prstGeom prst="rect">
            <a:avLst/>
          </a:prstGeom>
          <a:solidFill>
            <a:srgbClr val="f8f8f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157560"/>
            <a:ext cx="4114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th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agen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r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58F-2C21-4233-AD35-98AA64164E8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haracteristics of Effective Team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r objec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se of purpo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nsus decision ma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e thin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 re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C67-1669-4E68-ADA3-2C6F8044E5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llaborative Writing Guideline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 members careful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ree on project 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time to bo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rify individual responsib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84A-9338-411D-BA47-BB3A6E78F9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llaborative Writing Guideline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clear proces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oid group wri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sure compat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progress of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3BB-3432-42D4-B164-4FBCAE0E41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llaborative Writing Technologie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sites more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kis more flex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743-BB61-431A-8C20-EE3B09C792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oup Dynam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s that team members assu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 of team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ccess in resolving conflic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ccess in overcoming resis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E89-A2F2-4300-BC3C-ABC018835E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ssuming Team Rol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ori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ling, withdrawing, diverting, seeking atten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-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uraging, harmonizing, compromi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-ori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ing, information giving or seeking, coordinating, procedure set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752480"/>
            <a:ext cx="82296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usiness Communication Today, 9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6E5-3D74-4D64-934F-9DAD3D3F93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rentice Hall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7:01:18Z</dcterms:created>
  <dc:creator>Myles A. Hassell</dc:creator>
  <dc:description/>
  <dc:language>en-US</dc:language>
  <cp:lastModifiedBy>ulullas</cp:lastModifiedBy>
  <dcterms:modified xsi:type="dcterms:W3CDTF">2007-08-30T13:14:13Z</dcterms:modified>
  <cp:revision>233</cp:revision>
  <dc:subject>Business Communication Today, 9e</dc:subject>
  <dc:title>Communicating in Teams and Mastering Listening and Nonverbal Communication Skills</dc:title>
</cp:coreProperties>
</file>